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DD2-5152-4B5B-9756-55A1E5D3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B58-5F2E-4FD8-B865-BBC673E1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3B1-0582-4D43-A41F-D10DBC41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084-BA65-47C5-97CF-05E7F197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5DA-210A-4A6A-A751-00C3C27B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7E51-530E-420F-84ED-4E2E5EAB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70D-62E2-4F50-88FD-11B5B2D5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8FA-9646-4A98-825E-1DCC2064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171-C038-4F4E-9CB4-311B51D8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3307-9B5D-4DA5-AA42-D7036943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DF2-F47F-4801-9BD5-A902EA27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D8A-B435-4E57-9BDD-347DA238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C1CE-5FA3-4982-BFE2-23DBE74C6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a/Pocahontas_illustration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mous People Fri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. Mundorf’s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vember 14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Famous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62320" y="2285640"/>
            <a:ext cx="4419360" cy="2133720"/>
          </a:xfrm>
          <a:prstGeom prst="rect">
            <a:avLst/>
          </a:prstGeom>
          <a:solidFill>
            <a:srgbClr val="ccecff">
              <a:alpha val="5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irginia D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ohn Rol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cahont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57600" y="274680"/>
            <a:ext cx="50292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anoke and Jamest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8" descr="http://www.serc.si.edu/education/resources/watershed/stories/images/roanokemap.gif"/>
          <p:cNvPicPr/>
          <p:nvPr/>
        </p:nvPicPr>
        <p:blipFill>
          <a:blip r:embed="rId1"/>
          <a:stretch/>
        </p:blipFill>
        <p:spPr>
          <a:xfrm>
            <a:off x="304920" y="228600"/>
            <a:ext cx="2819160" cy="3844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upload.wikimedia.org/wikipedia/en/b/b2/Map_showing_location_of_Jamestown_and_Roanoke_Island_Colonies.PNG"/>
          <p:cNvPicPr/>
          <p:nvPr/>
        </p:nvPicPr>
        <p:blipFill>
          <a:blip r:embed="rId2"/>
          <a:stretch/>
        </p:blipFill>
        <p:spPr>
          <a:xfrm>
            <a:off x="3429000" y="30481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32767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irginia D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038480" y="304560"/>
            <a:ext cx="51055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orn ______________- one month after the __________ arrived on _________________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er _____________ was John ________, the _________ of the __________ Colon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irginia Dare was the ___________ of English parents born in the “_________”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_______________sailed back to _________ when __________ was ________ month old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uring the past ___ hundred years she has become a prominent figure in American ______ and ________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http://upload.wikimedia.org/wikipedia/commons/1/1b/Virginia_dare_stamp.JPG"/>
          <p:cNvPicPr/>
          <p:nvPr/>
        </p:nvPicPr>
        <p:blipFill>
          <a:blip r:embed="rId1"/>
          <a:stretch/>
        </p:blipFill>
        <p:spPr>
          <a:xfrm>
            <a:off x="609480" y="1066680"/>
            <a:ext cx="2895840" cy="2882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arm3.static.flickr.com/2253/2468742833_8392d612a4.jpg"/>
          <p:cNvPicPr/>
          <p:nvPr/>
        </p:nvPicPr>
        <p:blipFill>
          <a:blip r:embed="rId2"/>
          <a:srcRect l="0" t="34341" r="34410" b="7069"/>
          <a:stretch/>
        </p:blipFill>
        <p:spPr>
          <a:xfrm>
            <a:off x="457200" y="4191120"/>
            <a:ext cx="3124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telecoins.com/images/roanoke-ms64-0705.jpg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ohn Rol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352320" y="272520"/>
            <a:ext cx="5791320" cy="62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orn c. 1585 in __________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 was one of the early ____ settlers of _________________(Jamestown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1612, he learned from local ______________that _________ grew well in Virginia’s ____, _______ weath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ople in __________ were willing to pay a ______________for the crop, which did not ___________in ____________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bacco was a _______ crop, a crop that people _______ and ______ to earn _________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 was the first person to successfully  __________ tobacco as a ________________in _________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9" descr="http://oncampus.richmond.edu/academics/education/projects/webunits/vahistory/images/jsmith.gif"/>
          <p:cNvPicPr/>
          <p:nvPr/>
        </p:nvPicPr>
        <p:blipFill>
          <a:blip r:embed="rId1"/>
          <a:stretch/>
        </p:blipFill>
        <p:spPr>
          <a:xfrm>
            <a:off x="304920" y="1676520"/>
            <a:ext cx="27241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35053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cahon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352320" y="272880"/>
            <a:ext cx="579132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rn c. 1595  in present-day Virgini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r __________ was the _______of the Powhatan trib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owhatans and the Jamestown __________ traded _________ in return for __________ good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__________ saw that the ______ were trying to take over their lan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two sides made _____ when John ________ married Pocahonta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ace did ____ last – the English tried to take more _____ and the Powhatans _________ back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e became a __________ in London in the last year of her lif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e died, ___________ Rolfe, in 1617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0" descr="Image:Pocahontas illustrati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371600"/>
            <a:ext cx="2971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0" descr="http://content.answers.com/main/content/img/getty/2/5/2931025.jpg"/>
          <p:cNvPicPr/>
          <p:nvPr/>
        </p:nvPicPr>
        <p:blipFill>
          <a:blip r:embed="rId1"/>
          <a:stretch/>
        </p:blipFill>
        <p:spPr>
          <a:xfrm>
            <a:off x="304920" y="380880"/>
            <a:ext cx="8161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Virginia Dare fam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tle 4"/>
          <p:cNvSpPr/>
          <p:nvPr/>
        </p:nvSpPr>
        <p:spPr>
          <a:xfrm>
            <a:off x="5335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4"/>
          <p:cNvSpPr/>
          <p:nvPr/>
        </p:nvSpPr>
        <p:spPr>
          <a:xfrm>
            <a:off x="228600" y="3657600"/>
            <a:ext cx="87631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John Rolfe fam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tle 4"/>
          <p:cNvSpPr/>
          <p:nvPr/>
        </p:nvSpPr>
        <p:spPr>
          <a:xfrm>
            <a:off x="152280" y="5181480"/>
            <a:ext cx="87631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is Pocahontas fam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8:30:37Z</dcterms:created>
  <dc:creator>CCPS</dc:creator>
  <dc:description/>
  <dc:language>en-US</dc:language>
  <cp:lastModifiedBy>CCPS</cp:lastModifiedBy>
  <dcterms:modified xsi:type="dcterms:W3CDTF">2008-11-14T12:15:08Z</dcterms:modified>
  <cp:revision>23</cp:revision>
  <dc:subject/>
  <dc:title>Famous People Friday</dc:title>
</cp:coreProperties>
</file>